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0CC0-B1E2-4C13-BC5B-619093F79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9085-A65E-4332-B6B7-37E615125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DA90-1FC9-415A-B35B-3391530BB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34C2-FDF4-439C-8339-8D9FEB3B9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9146F-4644-4784-BA19-FC09BF48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81A9-9440-4C1F-A85C-45FECACE3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38E8-FD02-4B68-8B56-840C7B68A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EC1FA-F888-4C5F-9008-77027938B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B6974-DF0C-488C-B74A-25D8C00DE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5C3EC-4BD6-4A19-AD18-D1271E676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DA73-AD46-4C48-99CA-0CCCED267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B085-E72E-4488-9C09-3A6E210CD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44853-3A53-453D-8E08-DB7BADA7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38A7-64FB-402F-BC6E-99421EAA7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8D63C-FB49-459A-879C-AB3490F43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45C6D-26DB-45AC-8E77-6AB00B20E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25A36-75B9-4AE1-BB6D-0A4B226CA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7776-4A16-4CDA-905D-0D8E99A2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4DC3-A3DF-4C09-9E79-29EABAD31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78AA-A0E4-4F18-9CC3-7750857B4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41D0-DBB5-4D35-8284-7232EFFA7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17D60-88AA-4AAA-AE21-0F14F1C6B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2289B-231F-4C93-8832-28E8497FC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8A12-3972-42DF-8697-E8E3BE031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5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84DD0-07FB-4984-BEB1-FE5BE9B0B14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A35EF-9600-48E6-B6F6-6B05B52A4DBC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11" descr="C:\Users\Ирина\Desktop\Межрегиональная конференция 2014\2012-09-04-02.jpg"/>
          <p:cNvPicPr/>
          <p:nvPr/>
        </p:nvPicPr>
        <p:blipFill>
          <a:blip r:embed="rId1"/>
          <a:stretch/>
        </p:blipFill>
        <p:spPr>
          <a:xfrm>
            <a:off x="2786040" y="3500280"/>
            <a:ext cx="3905280" cy="2928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428760"/>
            <a:ext cx="750096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221304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Областная научно-практическая конференция </a:t>
            </a:r>
            <a:br>
              <a:rPr sz="1800"/>
            </a:br>
            <a:r>
              <a:rPr b="1" lang="ru-RU" sz="1800" spc="-1" strike="noStrike">
                <a:solidFill>
                  <a:srgbClr val="221304"/>
                </a:solidFill>
                <a:latin typeface="Times New Roman"/>
              </a:rPr>
              <a:t>«Современные модели образовательных практик в сфере образования по естественнонаучной направленности»</a:t>
            </a:r>
            <a:endParaRPr b="0" lang="en-US" sz="1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71720" y="1785960"/>
            <a:ext cx="764352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«Патриотическое воспитание обучающих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через вовлечение в краеведческую деятельность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из опыта работы)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1219320" y="1905120"/>
            <a:ext cx="32097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Скругленный прямоугольник 4"/>
          <p:cNvGrpSpPr/>
          <p:nvPr/>
        </p:nvGrpSpPr>
        <p:grpSpPr>
          <a:xfrm>
            <a:off x="1335240" y="476280"/>
            <a:ext cx="7113600" cy="961920"/>
            <a:chOff x="1335240" y="476280"/>
            <a:chExt cx="7113600" cy="961920"/>
          </a:xfrm>
        </p:grpSpPr>
        <p:pic>
          <p:nvPicPr>
            <p:cNvPr id="13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35240" y="476280"/>
              <a:ext cx="71136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1401840" y="544680"/>
              <a:ext cx="698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Историческое наследие Музейной площад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" name="Скругленный прямоугольник 5"/>
          <p:cNvSpPr/>
          <p:nvPr/>
        </p:nvSpPr>
        <p:spPr>
          <a:xfrm>
            <a:off x="1285920" y="5786280"/>
            <a:ext cx="6858000" cy="785880"/>
          </a:xfrm>
          <a:prstGeom prst="roundRect">
            <a:avLst>
              <a:gd name="adj" fmla="val 16667"/>
            </a:avLst>
          </a:prstGeom>
          <a:solidFill>
            <a:srgbClr val="f3c4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ица Московска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Рисунок 7" descr="C:\Users\Ирина\Desktop\загруженное (1).png"/>
          <p:cNvPicPr/>
          <p:nvPr/>
        </p:nvPicPr>
        <p:blipFill>
          <a:blip r:embed="rId2"/>
          <a:stretch/>
        </p:blipFill>
        <p:spPr>
          <a:xfrm>
            <a:off x="2357280" y="1785960"/>
            <a:ext cx="47865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Скругленный прямоугольник 4"/>
          <p:cNvGrpSpPr/>
          <p:nvPr/>
        </p:nvGrpSpPr>
        <p:grpSpPr>
          <a:xfrm>
            <a:off x="1335240" y="476280"/>
            <a:ext cx="7113600" cy="961920"/>
            <a:chOff x="1335240" y="476280"/>
            <a:chExt cx="7113600" cy="961920"/>
          </a:xfrm>
        </p:grpSpPr>
        <p:pic>
          <p:nvPicPr>
            <p:cNvPr id="138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35240" y="476280"/>
              <a:ext cx="71136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1401840" y="544680"/>
              <a:ext cx="698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Историческое наследие Музейной площад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Скругленный прямоугольник 5"/>
          <p:cNvSpPr/>
          <p:nvPr/>
        </p:nvSpPr>
        <p:spPr>
          <a:xfrm>
            <a:off x="1285920" y="5786280"/>
            <a:ext cx="6858000" cy="785880"/>
          </a:xfrm>
          <a:prstGeom prst="roundRect">
            <a:avLst>
              <a:gd name="adj" fmla="val 16667"/>
            </a:avLst>
          </a:prstGeom>
          <a:solidFill>
            <a:srgbClr val="f3c4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аратовский областной музей краеведен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Рисунок 6" descr="C:\Users\Ирина\Desktop\dsn_5436.jpg"/>
          <p:cNvPicPr/>
          <p:nvPr/>
        </p:nvPicPr>
        <p:blipFill>
          <a:blip r:embed="rId2"/>
          <a:stretch/>
        </p:blipFill>
        <p:spPr>
          <a:xfrm>
            <a:off x="5143680" y="3571920"/>
            <a:ext cx="3536640" cy="19177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C:\с компьютера\мои альбомы\РПКГ\Экскурсии_проект\Школа юного краеведа\Lj9XnKN95L0.jpg"/>
          <p:cNvPicPr/>
          <p:nvPr/>
        </p:nvPicPr>
        <p:blipFill>
          <a:blip r:embed="rId3"/>
          <a:stretch/>
        </p:blipFill>
        <p:spPr>
          <a:xfrm>
            <a:off x="1285920" y="2071800"/>
            <a:ext cx="3786120" cy="20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Скругленный прямоугольник 4"/>
          <p:cNvGrpSpPr/>
          <p:nvPr/>
        </p:nvGrpSpPr>
        <p:grpSpPr>
          <a:xfrm>
            <a:off x="1335240" y="476280"/>
            <a:ext cx="7113600" cy="961920"/>
            <a:chOff x="1335240" y="476280"/>
            <a:chExt cx="7113600" cy="961920"/>
          </a:xfrm>
        </p:grpSpPr>
        <p:pic>
          <p:nvPicPr>
            <p:cNvPr id="144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35240" y="476280"/>
              <a:ext cx="71136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1401840" y="544680"/>
              <a:ext cx="698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Историческое наследие Музейной площад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6" name="Скругленный прямоугольник 5"/>
          <p:cNvSpPr/>
          <p:nvPr/>
        </p:nvSpPr>
        <p:spPr>
          <a:xfrm>
            <a:off x="1285920" y="5786280"/>
            <a:ext cx="6858000" cy="785880"/>
          </a:xfrm>
          <a:prstGeom prst="roundRect">
            <a:avLst>
              <a:gd name="adj" fmla="val 16667"/>
            </a:avLst>
          </a:prstGeom>
          <a:solidFill>
            <a:srgbClr val="f3c4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вято-Троицкий кафедральный собо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Рисунок 7" descr="C:\Users\Ирина\Desktop\raAnKlSCgbo.jpg"/>
          <p:cNvPicPr/>
          <p:nvPr/>
        </p:nvPicPr>
        <p:blipFill>
          <a:blip r:embed="rId2"/>
          <a:stretch/>
        </p:blipFill>
        <p:spPr>
          <a:xfrm>
            <a:off x="2357280" y="1928880"/>
            <a:ext cx="500076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Скругленный прямоугольник 4"/>
          <p:cNvGrpSpPr/>
          <p:nvPr/>
        </p:nvGrpSpPr>
        <p:grpSpPr>
          <a:xfrm>
            <a:off x="1335240" y="476280"/>
            <a:ext cx="7113600" cy="961920"/>
            <a:chOff x="1335240" y="476280"/>
            <a:chExt cx="7113600" cy="961920"/>
          </a:xfrm>
        </p:grpSpPr>
        <p:pic>
          <p:nvPicPr>
            <p:cNvPr id="149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35240" y="476280"/>
              <a:ext cx="71136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01840" y="544680"/>
              <a:ext cx="698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0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Сайт гимназии </a:t>
              </a:r>
              <a:r>
                <a:rPr b="0" lang="en-US" sz="40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http://</a:t>
              </a:r>
              <a:r>
                <a:rPr b="0" lang="ru-RU" sz="4000" spc="-1" strike="noStrike" u="sng">
                  <a:solidFill>
                    <a:srgbClr val="660066"/>
                  </a:solidFill>
                  <a:uFillTx/>
                  <a:latin typeface="Times New Roman"/>
                </a:rPr>
                <a:t>рпкг.рф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1" name="Picture 1" descr=""/>
          <p:cNvPicPr/>
          <p:nvPr/>
        </p:nvPicPr>
        <p:blipFill>
          <a:blip r:embed="rId2"/>
          <a:stretch/>
        </p:blipFill>
        <p:spPr>
          <a:xfrm>
            <a:off x="1214280" y="2000160"/>
            <a:ext cx="7296480" cy="41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571760" y="1999800"/>
            <a:ext cx="6929280" cy="41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К патриотизму нельзя только призывать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его нужно заботливо воспитывать 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оспитывать любовь к родным местам ... 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.С. Лихаче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Скругленный прямоугольник 4"/>
          <p:cNvGrpSpPr/>
          <p:nvPr/>
        </p:nvGrpSpPr>
        <p:grpSpPr>
          <a:xfrm>
            <a:off x="1047600" y="476280"/>
            <a:ext cx="7688520" cy="961920"/>
            <a:chOff x="1047600" y="476280"/>
            <a:chExt cx="7688520" cy="961920"/>
          </a:xfrm>
        </p:grpSpPr>
        <p:pic>
          <p:nvPicPr>
            <p:cNvPr id="96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047600" y="476280"/>
              <a:ext cx="768852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116000" y="544680"/>
              <a:ext cx="7554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000" spc="-1" strike="noStrike">
                  <a:solidFill>
                    <a:srgbClr val="000000"/>
                  </a:solidFill>
                  <a:latin typeface="Times New Roman"/>
                </a:rPr>
                <a:t>Проект«Школа юного краеведа»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Скругленный прямоугольник 5"/>
          <p:cNvSpPr/>
          <p:nvPr/>
        </p:nvSpPr>
        <p:spPr>
          <a:xfrm>
            <a:off x="1071720" y="5357880"/>
            <a:ext cx="7715160" cy="1214280"/>
          </a:xfrm>
          <a:prstGeom prst="roundRect">
            <a:avLst>
              <a:gd name="adj" fmla="val 16667"/>
            </a:avLst>
          </a:prstGeom>
          <a:solidFill>
            <a:srgbClr val="f3c4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8" descr="C:\с компьютера\мои альбомы\РПКГ\Экскурсии_проект\Школа юного краеведа\QB9HiJc2ciA.jpg"/>
          <p:cNvPicPr/>
          <p:nvPr/>
        </p:nvPicPr>
        <p:blipFill>
          <a:blip r:embed="rId2"/>
          <a:stretch/>
        </p:blipFill>
        <p:spPr>
          <a:xfrm>
            <a:off x="1928880" y="1857240"/>
            <a:ext cx="559584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1"/>
          <p:cNvSpPr/>
          <p:nvPr/>
        </p:nvSpPr>
        <p:spPr>
          <a:xfrm>
            <a:off x="1571760" y="5434200"/>
            <a:ext cx="6786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2017 года проект является частью муниципального проекта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«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а юного краеведа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»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ru-RU" sz="1600" spc="-1" strike="noStrike">
                <a:solidFill>
                  <a:srgbClr val="414141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анного совместно с Саратовским национальным исследовательским государственным университетом имени Н.Г. Чернышевского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071360" y="571680"/>
            <a:ext cx="7615080" cy="52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Times New Roman"/>
              </a:rPr>
              <a:t>Проект позволяет его участникам реализовать свой творческий потенциал и применить свои знания и умения в учебной и внеурочной деятельности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Актуальнос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данного проекта заключается  в привлечении школьников и молодёжи к новым формам проведения досуга и внеурочного времени, активно включившихся в процесс проведения экскурсий, экспедиционных и туристических маршрутов по родному краю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ь участия в проекте: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ормирование у обучающихся целостного взгляда на окружающий мир с учётом статуса О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Целевая аудитория проекта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– обучающиеся средней и старшей возрастной категории, студенты учебных заведений, рабочая молодёжь, взрослое население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Срок реализации проекта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 этап: 2016 – 2017 уч.год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 этап: 2017-2018 уч.год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 этап: 2018-2019 уч.год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Скругленный прямоугольник 4"/>
          <p:cNvGrpSpPr/>
          <p:nvPr/>
        </p:nvGrpSpPr>
        <p:grpSpPr>
          <a:xfrm>
            <a:off x="1335240" y="476280"/>
            <a:ext cx="7113600" cy="961920"/>
            <a:chOff x="1335240" y="476280"/>
            <a:chExt cx="7113600" cy="961920"/>
          </a:xfrm>
        </p:grpSpPr>
        <p:pic>
          <p:nvPicPr>
            <p:cNvPr id="103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35240" y="476280"/>
              <a:ext cx="71136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1401840" y="544680"/>
              <a:ext cx="698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Историческое наследие Музейной площад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Скругленный прямоугольник 5"/>
          <p:cNvSpPr/>
          <p:nvPr/>
        </p:nvSpPr>
        <p:spPr>
          <a:xfrm>
            <a:off x="1285920" y="5786280"/>
            <a:ext cx="6858000" cy="785880"/>
          </a:xfrm>
          <a:prstGeom prst="roundRect">
            <a:avLst>
              <a:gd name="adj" fmla="val 16667"/>
            </a:avLst>
          </a:prstGeom>
          <a:solidFill>
            <a:srgbClr val="f3c4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МОУ «Русская православна классическая гимназия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имени преподобного Сергия Радонежского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Рисунок 6" descr="C:\с компьютера\РПКГ\Для буклета\2012-09-04-02.jpg"/>
          <p:cNvPicPr/>
          <p:nvPr/>
        </p:nvPicPr>
        <p:blipFill>
          <a:blip r:embed="rId2"/>
          <a:stretch/>
        </p:blipFill>
        <p:spPr>
          <a:xfrm>
            <a:off x="5072040" y="2714760"/>
            <a:ext cx="3500640" cy="28573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C:\с компьютера\мои альбомы\РПКГ\Экскурсии_проект\Школа юного краеведа\bDFgqiNEues.jpg"/>
          <p:cNvPicPr/>
          <p:nvPr/>
        </p:nvPicPr>
        <p:blipFill>
          <a:blip r:embed="rId3"/>
          <a:stretch/>
        </p:blipFill>
        <p:spPr>
          <a:xfrm>
            <a:off x="1071720" y="1714680"/>
            <a:ext cx="3929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Скругленный прямоугольник 4"/>
          <p:cNvGrpSpPr/>
          <p:nvPr/>
        </p:nvGrpSpPr>
        <p:grpSpPr>
          <a:xfrm>
            <a:off x="1335240" y="476280"/>
            <a:ext cx="7113600" cy="961920"/>
            <a:chOff x="1335240" y="476280"/>
            <a:chExt cx="7113600" cy="961920"/>
          </a:xfrm>
        </p:grpSpPr>
        <p:pic>
          <p:nvPicPr>
            <p:cNvPr id="109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35240" y="476280"/>
              <a:ext cx="71136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0" name=""/>
            <p:cNvSpPr/>
            <p:nvPr/>
          </p:nvSpPr>
          <p:spPr>
            <a:xfrm>
              <a:off x="1401840" y="544680"/>
              <a:ext cx="698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Историческое наследие Музейной площад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Скругленный прямоугольник 5"/>
          <p:cNvSpPr/>
          <p:nvPr/>
        </p:nvSpPr>
        <p:spPr>
          <a:xfrm>
            <a:off x="1285920" y="5786280"/>
            <a:ext cx="6858000" cy="785880"/>
          </a:xfrm>
          <a:prstGeom prst="roundRect">
            <a:avLst>
              <a:gd name="adj" fmla="val 16667"/>
            </a:avLst>
          </a:prstGeom>
          <a:solidFill>
            <a:srgbClr val="f3c4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Улица Челюскинце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Рисунок 7" descr="C:\Users\Ирина\Desktop\загруженное.png"/>
          <p:cNvPicPr/>
          <p:nvPr/>
        </p:nvPicPr>
        <p:blipFill>
          <a:blip r:embed="rId2"/>
          <a:stretch/>
        </p:blipFill>
        <p:spPr>
          <a:xfrm>
            <a:off x="5143680" y="2714760"/>
            <a:ext cx="3438360" cy="27144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с компьютера\мои альбомы\РПКГ\Экскурсии_проект\Школа юного краеведа\Yfb7QYoW-84.jpg"/>
          <p:cNvPicPr/>
          <p:nvPr/>
        </p:nvPicPr>
        <p:blipFill>
          <a:blip r:embed="rId3"/>
          <a:stretch/>
        </p:blipFill>
        <p:spPr>
          <a:xfrm>
            <a:off x="1357200" y="1785960"/>
            <a:ext cx="35719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Скругленный прямоугольник 4"/>
          <p:cNvGrpSpPr/>
          <p:nvPr/>
        </p:nvGrpSpPr>
        <p:grpSpPr>
          <a:xfrm>
            <a:off x="1335240" y="476280"/>
            <a:ext cx="7113600" cy="961920"/>
            <a:chOff x="1335240" y="476280"/>
            <a:chExt cx="7113600" cy="961920"/>
          </a:xfrm>
        </p:grpSpPr>
        <p:pic>
          <p:nvPicPr>
            <p:cNvPr id="115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35240" y="476280"/>
              <a:ext cx="71136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6" name=""/>
            <p:cNvSpPr/>
            <p:nvPr/>
          </p:nvSpPr>
          <p:spPr>
            <a:xfrm>
              <a:off x="1401840" y="544680"/>
              <a:ext cx="698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Историческое наследие Музейной площад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Скругленный прямоугольник 5"/>
          <p:cNvSpPr/>
          <p:nvPr/>
        </p:nvSpPr>
        <p:spPr>
          <a:xfrm>
            <a:off x="1285920" y="5786280"/>
            <a:ext cx="6858000" cy="785880"/>
          </a:xfrm>
          <a:prstGeom prst="roundRect">
            <a:avLst>
              <a:gd name="adj" fmla="val 16667"/>
            </a:avLst>
          </a:prstGeom>
          <a:solidFill>
            <a:srgbClr val="f3c4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Здание управления Приволжской железной дорог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Рисунок 6" descr="C:\Users\Ирина\Desktop\11ffab128fa9d9b749f4474047a4beb2.jpg"/>
          <p:cNvPicPr/>
          <p:nvPr/>
        </p:nvPicPr>
        <p:blipFill>
          <a:blip r:embed="rId2"/>
          <a:stretch/>
        </p:blipFill>
        <p:spPr>
          <a:xfrm>
            <a:off x="5214960" y="3214800"/>
            <a:ext cx="3429000" cy="242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C:\с компьютера\мои альбомы\РПКГ\Экскурсии_проект\Школа юного краеведа\UfoONabBS1E.jpg"/>
          <p:cNvPicPr/>
          <p:nvPr/>
        </p:nvPicPr>
        <p:blipFill>
          <a:blip r:embed="rId3"/>
          <a:stretch/>
        </p:blipFill>
        <p:spPr>
          <a:xfrm>
            <a:off x="1071720" y="1714680"/>
            <a:ext cx="392904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Скругленный прямоугольник 4"/>
          <p:cNvGrpSpPr/>
          <p:nvPr/>
        </p:nvGrpSpPr>
        <p:grpSpPr>
          <a:xfrm>
            <a:off x="1335240" y="476280"/>
            <a:ext cx="7113600" cy="961920"/>
            <a:chOff x="1335240" y="476280"/>
            <a:chExt cx="7113600" cy="961920"/>
          </a:xfrm>
        </p:grpSpPr>
        <p:pic>
          <p:nvPicPr>
            <p:cNvPr id="121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35240" y="476280"/>
              <a:ext cx="71136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"/>
            <p:cNvSpPr/>
            <p:nvPr/>
          </p:nvSpPr>
          <p:spPr>
            <a:xfrm>
              <a:off x="1401840" y="544680"/>
              <a:ext cx="698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Историческое наследие Музейной площад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" name="Скругленный прямоугольник 5"/>
          <p:cNvSpPr/>
          <p:nvPr/>
        </p:nvSpPr>
        <p:spPr>
          <a:xfrm>
            <a:off x="1285920" y="5786280"/>
            <a:ext cx="6858000" cy="785880"/>
          </a:xfrm>
          <a:prstGeom prst="roundRect">
            <a:avLst>
              <a:gd name="adj" fmla="val 16667"/>
            </a:avLst>
          </a:prstGeom>
          <a:solidFill>
            <a:srgbClr val="f3c4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Базар Пешк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Рисунок 7" descr="C:\Users\Ирина\Desktop\16207246_w800_h640_verhnij.jpg"/>
          <p:cNvPicPr/>
          <p:nvPr/>
        </p:nvPicPr>
        <p:blipFill>
          <a:blip r:embed="rId2"/>
          <a:stretch/>
        </p:blipFill>
        <p:spPr>
          <a:xfrm>
            <a:off x="5357880" y="3143160"/>
            <a:ext cx="3357360" cy="24289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с компьютера\мои альбомы\РПКГ\Экскурсии_проект\Школа юного краеведа\egWvq-Pb5pw.jpg"/>
          <p:cNvPicPr/>
          <p:nvPr/>
        </p:nvPicPr>
        <p:blipFill>
          <a:blip r:embed="rId3"/>
          <a:stretch/>
        </p:blipFill>
        <p:spPr>
          <a:xfrm>
            <a:off x="1214280" y="1785960"/>
            <a:ext cx="392940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Скругленный прямоугольник 4"/>
          <p:cNvGrpSpPr/>
          <p:nvPr/>
        </p:nvGrpSpPr>
        <p:grpSpPr>
          <a:xfrm>
            <a:off x="1335240" y="476280"/>
            <a:ext cx="7113600" cy="961920"/>
            <a:chOff x="1335240" y="476280"/>
            <a:chExt cx="7113600" cy="961920"/>
          </a:xfrm>
        </p:grpSpPr>
        <p:pic>
          <p:nvPicPr>
            <p:cNvPr id="127" name="Скругленный 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1335240" y="476280"/>
              <a:ext cx="71136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1401840" y="544680"/>
              <a:ext cx="6983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«Историческое наследие Музейной площади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Скругленный прямоугольник 5"/>
          <p:cNvSpPr/>
          <p:nvPr/>
        </p:nvSpPr>
        <p:spPr>
          <a:xfrm>
            <a:off x="1285920" y="5786280"/>
            <a:ext cx="6858000" cy="785880"/>
          </a:xfrm>
          <a:prstGeom prst="roundRect">
            <a:avLst>
              <a:gd name="adj" fmla="val 16667"/>
            </a:avLst>
          </a:prstGeom>
          <a:solidFill>
            <a:srgbClr val="f3c49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Дом купца Корнил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Рисунок 6" descr="C:\Users\Ирина\Desktop\0_dfdc1_8e11c3bd_XL.jpg"/>
          <p:cNvPicPr/>
          <p:nvPr/>
        </p:nvPicPr>
        <p:blipFill>
          <a:blip r:embed="rId2"/>
          <a:stretch/>
        </p:blipFill>
        <p:spPr>
          <a:xfrm>
            <a:off x="5143680" y="3214800"/>
            <a:ext cx="3333600" cy="238608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"/>
          <p:cNvPicPr/>
          <p:nvPr/>
        </p:nvPicPr>
        <p:blipFill>
          <a:blip r:embed="rId3"/>
          <a:srcRect l="26357" t="10001" r="26484" b="44999"/>
          <a:stretch/>
        </p:blipFill>
        <p:spPr>
          <a:xfrm>
            <a:off x="1143000" y="2071800"/>
            <a:ext cx="385776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10:24:55Z</dcterms:created>
  <dc:creator>Ирина</dc:creator>
  <dc:description/>
  <dc:language>en-US</dc:language>
  <cp:lastModifiedBy>пк</cp:lastModifiedBy>
  <dcterms:modified xsi:type="dcterms:W3CDTF">2022-10-30T19:05:52Z</dcterms:modified>
  <cp:revision>77</cp:revision>
  <dc:subject/>
  <dc:title>Областной конкурс  «Учитель года – 2007» Публичная лекция</dc:title>
</cp:coreProperties>
</file>